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ASHREG.WAV" ContentType="audio/x-wav"/>
  <Override PartName="/ppt/media/DRIVEBY.WAV" ContentType="audio/x-wav"/>
  <Override PartName="/ppt/media/helicopter.wav" ContentType="audio/x-wav"/>
  <Override PartName="/ppt/media/LASER.WAV" ContentType="audio/x-wav"/>
  <Override PartName="/ppt/media/zapvib04.wav" ContentType="audio/x-wav"/>
  <Override PartName="/ppt/media/zipdn102.wav" ContentType="audio/x-wav"/>
  <Override PartName="/ppt/media/jetflyby2.wav" ContentType="audio/x-wav"/>
  <Override PartName="/ppt/media/bserie06.wav" ContentType="audio/x-wav"/>
  <Override PartName="/ppt/media/zapbig0g.wav" ContentType="audio/x-wav"/>
  <Override PartName="/ppt/media/PROJCTOR.WAV" ContentType="audio/x-wav"/>
  <Override PartName="/ppt/media/EXPLODE.WAV" ContentType="audio/x-wav"/>
  <Override PartName="/ppt/media/caralarmoff.wav" ContentType="audio/x-wav"/>
  <Override PartName="/ppt/media/RICOCHET.WAV" ContentType="audio/x-wav"/>
  <Override PartName="/ppt/media/CARBRAKE.WAV" ContentType="audio/x-wav"/>
  <Override PartName="/ppt/media/WHOOSH.WAV" ContentType="audio/x-wav"/>
  <Override PartName="/ppt/media/jetflyby.wav" ContentType="audio/x-wav"/>
  <Override PartName="/ppt/media/CHIMES.WAV" ContentType="audio/x-wav"/>
  <Override PartName="/ppt/media/GUNSHOT.WAV" ContentType="audio/x-wav"/>
  <Override PartName="/ppt/media/highchim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49E-6EDF-4D7C-AA71-814A9EF8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A40-D799-4E14-AE7A-468E0EC5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CD2-6A3C-407C-A617-B8063491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359-6FBE-44F7-8820-7FAD6316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38B-D2FE-4A45-9B2A-F234F857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ED5-DD42-48DB-8862-15C967F0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47A-EAB9-49C1-ADD0-368D3C12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F6A-4437-463D-89B4-5FE6B385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9CD-0238-4F09-BCA7-58C7C21C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88E-0A04-4EEB-A1DB-6EA09F1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C97-E861-410B-9D61-352686A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E6E-49AD-48E5-BB7D-67EF01D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FD87-D0B1-4F2D-A15C-6078EFD4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zapvib04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audio" Target="../media/caralarmoff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DRIVE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DRIVEBY.WAV"/><Relationship Id="rId12" Type="http://schemas.openxmlformats.org/officeDocument/2006/relationships/audio" Target="../media/CHIMES.WAV"/><Relationship Id="rId13" Type="http://schemas.openxmlformats.org/officeDocument/2006/relationships/audio" Target="../media/LASER.WAV"/><Relationship Id="rId14" Type="http://schemas.openxmlformats.org/officeDocument/2006/relationships/audio" Target="../media/DRIVEBY.WAV"/><Relationship Id="rId15" Type="http://schemas.openxmlformats.org/officeDocument/2006/relationships/audio" Target="../media/RICOCHET.WAV"/><Relationship Id="rId16" Type="http://schemas.openxmlformats.org/officeDocument/2006/relationships/audio" Target="../media/EXPLODE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BRAKE.WAV"/><Relationship Id="rId3" Type="http://schemas.openxmlformats.org/officeDocument/2006/relationships/audio" Target="../media/EXPLOD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LASER.WAV"/><Relationship Id="rId8" Type="http://schemas.openxmlformats.org/officeDocument/2006/relationships/audio" Target="../media/bserie06.wav"/><Relationship Id="rId9" Type="http://schemas.openxmlformats.org/officeDocument/2006/relationships/audio" Target="../media/LASER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SHREG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PROJCTOR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EXPLOD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EXPLODE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EXPLODE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ASHREG.WAV"/><Relationship Id="rId26" Type="http://schemas.openxmlformats.org/officeDocument/2006/relationships/audio" Target="../media/EXPLODE.WAV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elicopter.wav"/><Relationship Id="rId2" Type="http://schemas.openxmlformats.org/officeDocument/2006/relationships/audio" Target="../media/jetflyby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LASER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WHOOSH.WAV"/><Relationship Id="rId3" Type="http://schemas.openxmlformats.org/officeDocument/2006/relationships/audio" Target="../media/zipdn102.wav"/><Relationship Id="rId4" Type="http://schemas.openxmlformats.org/officeDocument/2006/relationships/audio" Target="../media/zipdn102.wav"/><Relationship Id="rId5" Type="http://schemas.openxmlformats.org/officeDocument/2006/relationships/audio" Target="../media/jetflyby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jetflyby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jetflyby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zapbig0g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600200"/>
            <a:ext cx="4267080" cy="1953000"/>
            <a:chOff x="990720" y="1600200"/>
            <a:chExt cx="4267080" cy="1953000"/>
          </a:xfrm>
        </p:grpSpPr>
        <p:sp>
          <p:nvSpPr>
            <p:cNvPr id="44" name=""/>
            <p:cNvSpPr/>
            <p:nvPr/>
          </p:nvSpPr>
          <p:spPr>
            <a:xfrm>
              <a:off x="990720" y="1600200"/>
              <a:ext cx="4267080" cy="1447920"/>
            </a:xfrm>
            <a:prstGeom prst="parallelogram">
              <a:avLst>
                <a:gd name="adj" fmla="val 73676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71800" y="16002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2819520"/>
              <a:ext cx="228600" cy="2286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1981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6000" y="29718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4876920" y="1828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Times New Roman"/>
              </a:rPr>
              <a:t>A = </a:t>
            </a:r>
            <a:r>
              <a:rPr b="1" i="1" lang="en-US" sz="5400" spc="-1" strike="noStrike">
                <a:solidFill>
                  <a:srgbClr val="993300"/>
                </a:solidFill>
                <a:latin typeface="Times New Roman"/>
              </a:rPr>
              <a:t>b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3505320"/>
            <a:ext cx="5943600" cy="2562480"/>
            <a:chOff x="0" y="3505320"/>
            <a:chExt cx="5943600" cy="2562480"/>
          </a:xfrm>
        </p:grpSpPr>
        <p:sp>
          <p:nvSpPr>
            <p:cNvPr id="51" name=""/>
            <p:cNvSpPr/>
            <p:nvPr/>
          </p:nvSpPr>
          <p:spPr>
            <a:xfrm>
              <a:off x="0" y="3505320"/>
              <a:ext cx="510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3657600"/>
              <a:ext cx="3657600" cy="1828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19320" y="548640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419112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50 c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343400" y="47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5053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4(1.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44197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6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45120" y="268776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5(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72200" y="3444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40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65160" y="1903320"/>
            <a:ext cx="3414600" cy="3540240"/>
          </a:xfrm>
          <a:prstGeom prst="parallelogram">
            <a:avLst>
              <a:gd name="adj" fmla="val 24625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600000">
            <a:off x="1096920" y="479592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600000">
            <a:off x="1714680" y="4650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27320" y="329256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74600" y="5005440"/>
            <a:ext cx="2482920" cy="39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70120" y="132552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0800" y="45450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0(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52592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00 in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5160" y="1903320"/>
            <a:ext cx="4154400" cy="3540240"/>
          </a:xfrm>
          <a:prstGeom prst="parallelogram">
            <a:avLst>
              <a:gd name="adj" fmla="val 28897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1680" y="333684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0120" y="132552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16240" y="1919160"/>
            <a:ext cx="0" cy="3527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5840" y="52164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13000" y="32194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19280"/>
            <a:ext cx="8359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 Find the area of the parallelogram with base length 3 m and height 50 c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86080" y="33847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00(5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6160" y="418608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5,000 c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9080" y="16876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30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flipH="1" rot="10800000">
            <a:off x="1447920" y="3809880"/>
            <a:ext cx="3504960" cy="1524240"/>
          </a:xfrm>
          <a:prstGeom prst="parallelogram">
            <a:avLst>
              <a:gd name="adj" fmla="val 599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47920" y="3809880"/>
            <a:ext cx="3504960" cy="1524240"/>
            <a:chOff x="1447920" y="3809880"/>
            <a:chExt cx="3504960" cy="1524240"/>
          </a:xfrm>
        </p:grpSpPr>
        <p:sp>
          <p:nvSpPr>
            <p:cNvPr id="207" name=""/>
            <p:cNvSpPr/>
            <p:nvPr/>
          </p:nvSpPr>
          <p:spPr>
            <a:xfrm flipH="1">
              <a:off x="1447920" y="533412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447920" y="3809880"/>
              <a:ext cx="0" cy="1524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7920" y="3809880"/>
              <a:ext cx="3504960" cy="1524240"/>
            </a:xfrm>
            <a:custGeom>
              <a:avLst/>
              <a:gdLst/>
              <a:ahLst/>
              <a:rect l="l" t="t" r="r" b="b"/>
              <a:pathLst>
                <a:path w="2208" h="960">
                  <a:moveTo>
                    <a:pt x="0" y="0"/>
                  </a:moveTo>
                  <a:lnTo>
                    <a:pt x="576" y="960"/>
                  </a:lnTo>
                  <a:lnTo>
                    <a:pt x="2208" y="9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3200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38080" y="1523880"/>
            <a:ext cx="2286000" cy="1752480"/>
            <a:chOff x="838080" y="1523880"/>
            <a:chExt cx="2286000" cy="1752480"/>
          </a:xfrm>
        </p:grpSpPr>
        <p:sp>
          <p:nvSpPr>
            <p:cNvPr id="214" name=""/>
            <p:cNvSpPr/>
            <p:nvPr/>
          </p:nvSpPr>
          <p:spPr>
            <a:xfrm>
              <a:off x="838080" y="1523880"/>
              <a:ext cx="2286000" cy="175248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152388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886200" y="1523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/>
          <p:nvPr/>
        </p:nvCxnSpPr>
        <p:spPr>
          <a:xfrm flipV="1" rot="10800000">
            <a:off x="1980360" y="1828440"/>
            <a:ext cx="1905840" cy="673920"/>
          </a:xfrm>
          <a:prstGeom prst="curvedConnector5">
            <a:avLst>
              <a:gd name="adj1" fmla="val 40997"/>
              <a:gd name="adj2" fmla="val 49973"/>
              <a:gd name="adj3" fmla="val 4099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791320" y="1523880"/>
            <a:ext cx="2133360" cy="2133720"/>
          </a:xfrm>
          <a:prstGeom prst="rtTriangl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endCxn id="218" idx="1"/>
          </p:cNvCxnSpPr>
          <p:nvPr/>
        </p:nvCxnSpPr>
        <p:spPr>
          <a:xfrm>
            <a:off x="4552560" y="1981080"/>
            <a:ext cx="1220040" cy="610560"/>
          </a:xfrm>
          <a:prstGeom prst="curvedConnector5">
            <a:avLst>
              <a:gd name="adj1" fmla="val 50767"/>
              <a:gd name="adj2" fmla="val 49970"/>
              <a:gd name="adj3" fmla="val 5076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2895480" y="5257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/>
          <p:nvPr/>
        </p:nvCxnSpPr>
        <p:spPr>
          <a:xfrm flipV="1" rot="10800000">
            <a:off x="1447200" y="1980000"/>
            <a:ext cx="3048480" cy="2763000"/>
          </a:xfrm>
          <a:prstGeom prst="curvedConnector5">
            <a:avLst>
              <a:gd name="adj1" fmla="val 3743"/>
              <a:gd name="adj2" fmla="val 50000"/>
              <a:gd name="adj3" fmla="val 37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23" name=""/>
          <p:cNvGraphicFramePr/>
          <p:nvPr/>
        </p:nvGraphicFramePr>
        <p:xfrm>
          <a:off x="1752480" y="5637240"/>
          <a:ext cx="579132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637240"/>
                    <a:ext cx="579132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47920" y="4952880"/>
                <a:ext cx="5181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area of each tri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85800" y="1981080"/>
            <a:ext cx="7238880" cy="1679040"/>
            <a:chOff x="685800" y="1981080"/>
            <a:chExt cx="7238880" cy="1679040"/>
          </a:xfrm>
        </p:grpSpPr>
        <p:sp>
          <p:nvSpPr>
            <p:cNvPr id="230" name=""/>
            <p:cNvSpPr/>
            <p:nvPr/>
          </p:nvSpPr>
          <p:spPr>
            <a:xfrm>
              <a:off x="685800" y="2057400"/>
              <a:ext cx="7238880" cy="114300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800" y="1981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3400" y="20574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52680" y="3200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2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3400" y="2514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38680" y="2133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33720" y="2209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461960" y="3733920"/>
                <a:ext cx="54975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38480" y="39625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8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9625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1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4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4876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1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5715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7.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5715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ft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447920" y="5791320"/>
                <a:ext cx="1981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1905120"/>
            <a:ext cx="5029200" cy="2438280"/>
          </a:xfrm>
          <a:custGeom>
            <a:avLst/>
            <a:gdLst>
              <a:gd name="textAreaLeft" fmla="*/ 1105920 w 5029200"/>
              <a:gd name="textAreaRight" fmla="*/ 3923280 w 5029200"/>
              <a:gd name="textAreaTop" fmla="*/ 536040 h 2438280"/>
              <a:gd name="textAreaBottom" fmla="*/ 19022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495680" y="1905120"/>
            <a:ext cx="1447920" cy="2438280"/>
            <a:chOff x="4495680" y="1905120"/>
            <a:chExt cx="1447920" cy="2438280"/>
          </a:xfrm>
        </p:grpSpPr>
        <p:sp>
          <p:nvSpPr>
            <p:cNvPr id="249" name=""/>
            <p:cNvSpPr/>
            <p:nvPr/>
          </p:nvSpPr>
          <p:spPr>
            <a:xfrm>
              <a:off x="4495680" y="27432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ltitu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95680" y="19051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657600" y="1447920"/>
            <a:ext cx="1828800" cy="3339720"/>
            <a:chOff x="3657600" y="1447920"/>
            <a:chExt cx="1828800" cy="3339720"/>
          </a:xfrm>
        </p:grpSpPr>
        <p:sp>
          <p:nvSpPr>
            <p:cNvPr id="252" name=""/>
            <p:cNvSpPr/>
            <p:nvPr/>
          </p:nvSpPr>
          <p:spPr>
            <a:xfrm>
              <a:off x="3657600" y="42670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ase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33920" y="1447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ase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0" y="4786200"/>
                <a:ext cx="91440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height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se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ase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1752480"/>
            <a:ext cx="3962520" cy="3886200"/>
            <a:chOff x="0" y="1752480"/>
            <a:chExt cx="3962520" cy="3886200"/>
          </a:xfrm>
        </p:grpSpPr>
        <p:sp>
          <p:nvSpPr>
            <p:cNvPr id="258" name=""/>
            <p:cNvSpPr/>
            <p:nvPr/>
          </p:nvSpPr>
          <p:spPr>
            <a:xfrm rot="5400000">
              <a:off x="151920" y="2743200"/>
              <a:ext cx="3733560" cy="2057400"/>
            </a:xfrm>
            <a:custGeom>
              <a:avLst/>
              <a:gdLst>
                <a:gd name="textAreaLeft" fmla="*/ 820800 w 3733560"/>
                <a:gd name="textAreaRight" fmla="*/ 2912760 w 3733560"/>
                <a:gd name="textAreaTop" fmla="*/ 452160 h 2057400"/>
                <a:gd name="textAreaBottom" fmla="*/ 160524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1752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90720" y="380988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23880" y="3352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47920" y="5105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3581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8120" y="3581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5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01960" y="1712880"/>
                <a:ext cx="51102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5486400" y="1905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57840" y="1905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59880" y="1919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5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843360" y="2671920"/>
                <a:ext cx="385596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954600" y="3916440"/>
                <a:ext cx="34448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4648320" y="44956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=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4495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in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64080" y="2927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03840" y="2900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32240" y="3924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86400" y="3917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5472000"/>
                <a:ext cx="914400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height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ase 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base 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Triangles and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0880" y="1523880"/>
            <a:ext cx="7620120" cy="2441160"/>
            <a:chOff x="380880" y="1523880"/>
            <a:chExt cx="7620120" cy="2441160"/>
          </a:xfrm>
        </p:grpSpPr>
        <p:sp>
          <p:nvSpPr>
            <p:cNvPr id="282" name=""/>
            <p:cNvSpPr/>
            <p:nvPr/>
          </p:nvSpPr>
          <p:spPr>
            <a:xfrm>
              <a:off x="1066680" y="2057400"/>
              <a:ext cx="2971800" cy="14479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38480" y="2057400"/>
              <a:ext cx="3124440" cy="1447920"/>
            </a:xfrm>
            <a:custGeom>
              <a:avLst/>
              <a:gdLst/>
              <a:ahLst/>
              <a:rect l="l" t="t" r="r" b="b"/>
              <a:pathLst>
                <a:path w="1968" h="912">
                  <a:moveTo>
                    <a:pt x="0" y="912"/>
                  </a:moveTo>
                  <a:lnTo>
                    <a:pt x="1968" y="912"/>
                  </a:lnTo>
                  <a:lnTo>
                    <a:pt x="1968" y="0"/>
                  </a:lnTo>
                  <a:lnTo>
                    <a:pt x="1152" y="0"/>
                  </a:lnTo>
                  <a:lnTo>
                    <a:pt x="0" y="624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99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86200" y="3048120"/>
              <a:ext cx="609480" cy="457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16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81080" y="16765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7220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57600" y="3505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62920" y="243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4280" y="1523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 y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/>
            <p:nvPr/>
          </p:nvCxnSpPr>
          <p:spPr>
            <a:xfrm flipV="1" rot="10800000">
              <a:off x="4037760" y="1904760"/>
              <a:ext cx="991440" cy="800640"/>
            </a:xfrm>
            <a:prstGeom prst="curvedConnector5">
              <a:avLst>
                <a:gd name="adj1" fmla="val 49981"/>
                <a:gd name="adj2" fmla="val 49977"/>
                <a:gd name="adj3" fmla="val 4998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2" name=""/>
          <p:cNvGrpSpPr/>
          <p:nvPr/>
        </p:nvGrpSpPr>
        <p:grpSpPr>
          <a:xfrm>
            <a:off x="1066680" y="2057400"/>
            <a:ext cx="2971800" cy="1447920"/>
            <a:chOff x="1066680" y="2057400"/>
            <a:chExt cx="2971800" cy="1447920"/>
          </a:xfrm>
        </p:grpSpPr>
        <p:sp>
          <p:nvSpPr>
            <p:cNvPr id="293" name=""/>
            <p:cNvSpPr/>
            <p:nvPr/>
          </p:nvSpPr>
          <p:spPr>
            <a:xfrm>
              <a:off x="1066680" y="2057400"/>
              <a:ext cx="2971800" cy="1447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3880" y="22860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47920" y="2743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038480" y="2057400"/>
            <a:ext cx="3124440" cy="1447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1968" y="0"/>
                </a:moveTo>
                <a:lnTo>
                  <a:pt x="1968" y="912"/>
                </a:lnTo>
                <a:lnTo>
                  <a:pt x="0" y="912"/>
                </a:lnTo>
                <a:lnTo>
                  <a:pt x="0" y="624"/>
                </a:lnTo>
                <a:lnTo>
                  <a:pt x="1152" y="0"/>
                </a:lnTo>
                <a:lnTo>
                  <a:pt x="1968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2925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0" y="4044960"/>
                <a:ext cx="2967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078520" y="3736800"/>
                <a:ext cx="4065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1238400" y="39686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3560" y="401004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0" y="4753080"/>
                <a:ext cx="7701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1509840" y="482292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75440" y="4780080"/>
            <a:ext cx="112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43720" y="4791240"/>
            <a:ext cx="90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5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15880" y="5950080"/>
                <a:ext cx="41450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724280" y="5867280"/>
            <a:ext cx="206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= 44.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27680" y="5823000"/>
            <a:ext cx="11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yd</a:t>
            </a:r>
            <a:r>
              <a:rPr b="1" lang="en-US" sz="3600" spc="-1" strike="noStrike" baseline="60000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92160" y="589104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10000" y="5897520"/>
            <a:ext cx="12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8.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72320" y="2048040"/>
            <a:ext cx="1290600" cy="1455480"/>
          </a:xfrm>
          <a:prstGeom prst="rect">
            <a:avLst/>
          </a:prstGeom>
          <a:solidFill>
            <a:srgbClr val="ffcc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70720" y="2563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863800" y="4024440"/>
                <a:ext cx="2379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3552840" y="39765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60760" y="3975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73720" y="38973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94600" y="39099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15400" y="39448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05240" y="481644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75080" y="2571840"/>
                <a:ext cx="39942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12000" y="2805120"/>
            <a:ext cx="8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64040" y="52578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0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3600000">
            <a:off x="1378080" y="1133640"/>
            <a:ext cx="2350800" cy="2598480"/>
          </a:xfrm>
          <a:prstGeom prst="triangle">
            <a:avLst>
              <a:gd name="adj" fmla="val 50000"/>
            </a:avLst>
          </a:prstGeom>
          <a:solidFill>
            <a:srgbClr val="ffcc00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26680" y="1802880"/>
            <a:ext cx="2228400" cy="1286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3600000">
            <a:off x="1349280" y="2801520"/>
            <a:ext cx="23184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35240" y="153972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7840" y="285444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9560" y="296388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6200" y="3368160"/>
            <a:ext cx="517680" cy="896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5000" y="2185560"/>
            <a:ext cx="484200" cy="838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1720" y="11476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</p:cNvCxnSpPr>
          <p:nvPr/>
        </p:nvCxnSpPr>
        <p:spPr>
          <a:xfrm rot="5400000">
            <a:off x="2775240" y="1680120"/>
            <a:ext cx="600840" cy="450000"/>
          </a:xfrm>
          <a:prstGeom prst="curvedConnector5">
            <a:avLst>
              <a:gd name="adj1" fmla="val 50000"/>
              <a:gd name="adj2" fmla="val 49959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5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7221600" y="2786040"/>
            <a:ext cx="8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375080" y="2571840"/>
                <a:ext cx="39942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83200" y="281952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3.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4000" y="5227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47.6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6280" y="1743120"/>
            <a:ext cx="3595680" cy="1658880"/>
          </a:xfrm>
          <a:prstGeom prst="triangle">
            <a:avLst>
              <a:gd name="adj" fmla="val 77130"/>
            </a:avLst>
          </a:prstGeom>
          <a:solidFill>
            <a:srgbClr val="ffcc00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0" y="1755720"/>
            <a:ext cx="0" cy="1658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41800" y="3170160"/>
            <a:ext cx="23148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2360" y="2467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55720" y="3324240"/>
            <a:ext cx="14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3.6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28600" y="22273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6200" y="3562200"/>
            <a:ext cx="109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1640" y="358308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81560" y="2227320"/>
            <a:ext cx="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.8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7264440" y="27860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1066680"/>
            <a:ext cx="7619400" cy="1447920"/>
            <a:chOff x="533520" y="1066680"/>
            <a:chExt cx="7619400" cy="1447920"/>
          </a:xfrm>
        </p:grpSpPr>
        <p:sp>
          <p:nvSpPr>
            <p:cNvPr id="60" name=""/>
            <p:cNvSpPr/>
            <p:nvPr/>
          </p:nvSpPr>
          <p:spPr>
            <a:xfrm>
              <a:off x="533520" y="167616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160" y="1600200"/>
              <a:ext cx="6171840" cy="914400"/>
            </a:xfrm>
            <a:prstGeom prst="parallelogram">
              <a:avLst>
                <a:gd name="adj" fmla="val 168740"/>
              </a:avLst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85840" y="1600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9880" y="175248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5840" y="2286000"/>
              <a:ext cx="228240" cy="228600"/>
            </a:xfrm>
            <a:prstGeom prst="rect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43040" y="10666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33960" y="1828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 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981080" y="2819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2 ( 8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5812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6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448160" y="2571840"/>
                <a:ext cx="384804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iangle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1760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83200" y="281952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94000" y="5227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36 in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49320" y="1646280"/>
            <a:ext cx="23184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71920" y="1231920"/>
            <a:ext cx="7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6320" y="238140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6280" y="231444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8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55680" y="305424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59360" y="408924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4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37120" y="1517760"/>
                <a:ext cx="24526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b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720720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46080" y="1647720"/>
            <a:ext cx="3251160" cy="1981440"/>
          </a:xfrm>
          <a:custGeom>
            <a:avLst/>
            <a:gdLst/>
            <a:ahLst/>
            <a:rect l="l" t="t" r="r" b="b"/>
            <a:pathLst>
              <a:path w="1584" h="848">
                <a:moveTo>
                  <a:pt x="1584" y="0"/>
                </a:moveTo>
                <a:lnTo>
                  <a:pt x="600" y="0"/>
                </a:lnTo>
                <a:lnTo>
                  <a:pt x="0" y="848"/>
                </a:lnTo>
                <a:lnTo>
                  <a:pt x="1584" y="0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46080" y="1647720"/>
            <a:ext cx="1244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47880" y="1654200"/>
            <a:ext cx="0" cy="1976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endCxn id="367" idx="1"/>
          </p:cNvCxnSpPr>
          <p:nvPr/>
        </p:nvCxnSpPr>
        <p:spPr>
          <a:xfrm>
            <a:off x="1509840" y="2801880"/>
            <a:ext cx="646560" cy="481680"/>
          </a:xfrm>
          <a:prstGeom prst="curvedConnector5">
            <a:avLst>
              <a:gd name="adj1" fmla="val 48857"/>
              <a:gd name="adj2" fmla="val 49962"/>
              <a:gd name="adj3" fmla="val 48857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1465200"/>
            <a:ext cx="3409920" cy="1755720"/>
          </a:xfrm>
          <a:custGeom>
            <a:avLst/>
            <a:gdLst/>
            <a:ahLst/>
            <a:rect l="l" t="t" r="r" b="b"/>
            <a:pathLst>
              <a:path w="1883" h="1152">
                <a:moveTo>
                  <a:pt x="0" y="1152"/>
                </a:moveTo>
                <a:lnTo>
                  <a:pt x="1883" y="1152"/>
                </a:lnTo>
                <a:lnTo>
                  <a:pt x="1883" y="0"/>
                </a:lnTo>
                <a:lnTo>
                  <a:pt x="795" y="0"/>
                </a:lnTo>
                <a:lnTo>
                  <a:pt x="0" y="1152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360" y="139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38640" y="52434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22 c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4320" y="1465200"/>
            <a:ext cx="28872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480" y="204480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21240" y="2052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7360" y="31798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35320" y="10717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06760" y="41767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4080" y="411156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11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709560" y="1646280"/>
            <a:ext cx="3732120" cy="1538280"/>
          </a:xfrm>
          <a:custGeom>
            <a:avLst/>
            <a:gdLst>
              <a:gd name="textAreaLeft" fmla="*/ 820800 w 3732120"/>
              <a:gd name="textAreaRight" fmla="*/ 2911680 w 3732120"/>
              <a:gd name="textAreaTop" fmla="*/ 338040 h 1538280"/>
              <a:gd name="textAreaBottom" fmla="*/ 1200240 h 15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440" y="1627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14960" y="5218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15 in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52760" y="1657440"/>
            <a:ext cx="2887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62040" y="21718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82680" y="314172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2360" y="123660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22760" y="4189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13440" y="4162320"/>
            <a:ext cx="12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3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52760" y="1642680"/>
            <a:ext cx="0" cy="1539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60880" y="1461960"/>
            <a:ext cx="1225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6320" y="1482840"/>
            <a:ext cx="1514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 rot="5400000">
            <a:off x="1034280" y="1292040"/>
            <a:ext cx="2513160" cy="2741400"/>
          </a:xfrm>
          <a:custGeom>
            <a:avLst/>
            <a:gdLst>
              <a:gd name="textAreaLeft" fmla="*/ 552600 w 2513160"/>
              <a:gd name="textAreaRight" fmla="*/ 1960560 w 2513160"/>
              <a:gd name="textAreaTop" fmla="*/ 602640 h 2741400"/>
              <a:gd name="textAreaBottom" fmla="*/ 2138760 h 27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403880" y="2585880"/>
                <a:ext cx="45799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trapezoid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440" y="1627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10120" y="28051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14960" y="5218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63 ft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3379320" y="2049480"/>
            <a:ext cx="28908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81360" y="2013120"/>
            <a:ext cx="9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9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19440" y="2430360"/>
            <a:ext cx="8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3040" y="24130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22760" y="4189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=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470480" y="1373040"/>
                <a:ext cx="3933720" cy="12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6800760" y="280044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54840" y="2792520"/>
            <a:ext cx="8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3440" y="4162320"/>
            <a:ext cx="12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 9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42840" y="2049480"/>
            <a:ext cx="2700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60720" y="3024360"/>
            <a:ext cx="0" cy="97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60720" y="139068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30840" y="5111640"/>
                <a:ext cx="24588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A triangle and a parallelogram both have areas of 20 cm</a:t>
            </a:r>
            <a:r>
              <a:rPr b="1" lang="en-US" sz="29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bases of 5 cm. What do you know about the heights?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71840" y="2141640"/>
            <a:ext cx="309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0 cm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6120" y="438156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08480" y="4322880"/>
            <a:ext cx="11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911160" y="4832280"/>
                <a:ext cx="278460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1278000" y="2265480"/>
            <a:ext cx="2438280" cy="2119320"/>
          </a:xfrm>
          <a:prstGeom prst="triangle">
            <a:avLst>
              <a:gd name="adj" fmla="val 50000"/>
            </a:avLst>
          </a:prstGeom>
          <a:solidFill>
            <a:srgbClr val="ffcccc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84520" y="3178080"/>
            <a:ext cx="3295800" cy="1174680"/>
          </a:xfrm>
          <a:prstGeom prst="parallelogram">
            <a:avLst>
              <a:gd name="adj" fmla="val 70143"/>
            </a:avLst>
          </a:prstGeom>
          <a:solidFill>
            <a:srgbClr val="ffcccc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6346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The height of the triangle is twice that of the parallelo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0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1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8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7384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2  10 – 2 #1 – 7, 8 –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027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47920" y="22860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es Over 10 - 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Find the area of the shaded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523880"/>
            <a:ext cx="7543800" cy="3581280"/>
            <a:chOff x="838080" y="1523880"/>
            <a:chExt cx="7543800" cy="3581280"/>
          </a:xfrm>
        </p:grpSpPr>
        <p:grpSp>
          <p:nvGrpSpPr>
            <p:cNvPr id="72" name=""/>
            <p:cNvGrpSpPr/>
            <p:nvPr/>
          </p:nvGrpSpPr>
          <p:grpSpPr>
            <a:xfrm>
              <a:off x="838080" y="1523880"/>
              <a:ext cx="7543800" cy="3581280"/>
              <a:chOff x="838080" y="1523880"/>
              <a:chExt cx="7543800" cy="3581280"/>
            </a:xfrm>
          </p:grpSpPr>
          <p:sp>
            <p:nvSpPr>
              <p:cNvPr id="73" name=""/>
              <p:cNvSpPr/>
              <p:nvPr/>
            </p:nvSpPr>
            <p:spPr>
              <a:xfrm>
                <a:off x="5486040" y="3276360"/>
                <a:ext cx="1981440" cy="990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90360" y="3200400"/>
                <a:ext cx="2438280" cy="1066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38080" y="1523880"/>
                <a:ext cx="7543800" cy="3581280"/>
                <a:chOff x="838080" y="1523880"/>
                <a:chExt cx="7543800" cy="3581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990360" y="2057400"/>
                  <a:ext cx="6477120" cy="2209680"/>
                </a:xfrm>
                <a:prstGeom prst="rect">
                  <a:avLst/>
                </a:prstGeom>
                <a:solidFill>
                  <a:srgbClr val="00cc99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86040" y="3276360"/>
                  <a:ext cx="2590920" cy="175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38080" y="3200400"/>
                  <a:ext cx="2590560" cy="19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38280" y="1523880"/>
                  <a:ext cx="3809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171840" y="312408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4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676160" y="3124080"/>
                  <a:ext cx="106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5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590560" y="3429000"/>
                  <a:ext cx="106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257440" y="342900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314840" y="2286000"/>
                  <a:ext cx="1067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2 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" name=""/>
            <p:cNvSpPr/>
            <p:nvPr/>
          </p:nvSpPr>
          <p:spPr>
            <a:xfrm>
              <a:off x="990720" y="320040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29000" y="32004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486400" y="327636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6400" y="327672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90720" y="2057400"/>
            <a:ext cx="243828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057400"/>
            <a:ext cx="198108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057400"/>
            <a:ext cx="2057400" cy="2209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191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343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2 (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89" idx="1"/>
            <a:endCxn id="95" idx="1"/>
          </p:cNvCxnSpPr>
          <p:nvPr/>
        </p:nvCxnSpPr>
        <p:spPr>
          <a:xfrm flipV="1" rot="10800000">
            <a:off x="761400" y="2628000"/>
            <a:ext cx="229320" cy="20660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762120" y="5029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343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2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1" idx="3"/>
            <a:endCxn id="98" idx="3"/>
          </p:cNvCxnSpPr>
          <p:nvPr/>
        </p:nvCxnSpPr>
        <p:spPr>
          <a:xfrm>
            <a:off x="7467480" y="2666880"/>
            <a:ext cx="153360" cy="2028240"/>
          </a:xfrm>
          <a:prstGeom prst="curvedConnector5">
            <a:avLst>
              <a:gd name="adj1" fmla="val 249882"/>
              <a:gd name="adj2" fmla="val 49991"/>
              <a:gd name="adj3" fmla="val 2498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562720" y="50292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A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724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3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2" idx="1"/>
            <a:endCxn id="101" idx="1"/>
          </p:cNvCxnSpPr>
          <p:nvPr/>
        </p:nvCxnSpPr>
        <p:spPr>
          <a:xfrm flipV="1" rot="10800000">
            <a:off x="3276000" y="3161880"/>
            <a:ext cx="153000" cy="1913760"/>
          </a:xfrm>
          <a:prstGeom prst="curvedConnector5">
            <a:avLst>
              <a:gd name="adj1" fmla="val 250000"/>
              <a:gd name="adj2" fmla="val 49990"/>
              <a:gd name="adj3" fmla="val 2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276720" y="5257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8672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 = 12 + 10 +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5867280"/>
            <a:ext cx="37339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= 30 ft</a:t>
            </a:r>
            <a:r>
              <a:rPr b="1" lang="en-US" sz="3600" spc="-1" strike="noStrike" baseline="6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752480"/>
            <a:ext cx="2209680" cy="33530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8954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219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9520" y="2587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9(1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43560" y="3502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35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4800600"/>
            <a:ext cx="304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00600"/>
            <a:ext cx="304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752480"/>
            <a:ext cx="304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6320" y="117144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73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752480"/>
            <a:ext cx="2863800" cy="2559240"/>
          </a:xfrm>
          <a:prstGeom prst="rect">
            <a:avLst/>
          </a:prstGeom>
          <a:solidFill>
            <a:srgbClr val="00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91000" y="2781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219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89560" y="2587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13240" y="35020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57560" y="391464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9132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57560" y="176688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2000" y="115884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79640" y="3530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50(2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21120" y="4286160"/>
            <a:ext cx="33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1,000 c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1933560"/>
            <a:ext cx="5852880" cy="1176480"/>
          </a:xfrm>
          <a:prstGeom prst="parallelogram">
            <a:avLst>
              <a:gd name="adj" fmla="val 81234"/>
            </a:avLst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57840" y="1933560"/>
            <a:ext cx="0" cy="1204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8080" y="221760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26000" y="19368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8000" y="1401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6600" y="1320840"/>
            <a:ext cx="1219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752480"/>
            <a:ext cx="6419880" cy="1994040"/>
          </a:xfrm>
          <a:prstGeom prst="rect">
            <a:avLst/>
          </a:prstGeom>
          <a:solidFill>
            <a:srgbClr val="ccffcc">
              <a:alpha val="9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4200" y="2416320"/>
            <a:ext cx="8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6440" y="1190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1160" y="45766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05200" y="549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 yd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13640" y="33498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48000"/>
            <a:ext cx="392040" cy="39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1364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392040" cy="39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16920" y="2421000"/>
            <a:ext cx="927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04960" y="418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3(16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6440" y="4938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68 ft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20880" y="1933560"/>
            <a:ext cx="4400280" cy="1670040"/>
          </a:xfrm>
          <a:prstGeom prst="parallelogram">
            <a:avLst>
              <a:gd name="adj" fmla="val 43023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3560" y="1962000"/>
            <a:ext cx="0" cy="1640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5360" y="193680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3600" y="13860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24796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680" y="253044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06  10 – 1 #1 – 9, 10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19280"/>
            <a:ext cx="7620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parallelogram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04960" y="4183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2(1.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6440" y="493884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= 3 m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000" y="1633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1400" y="1933560"/>
            <a:ext cx="4574880" cy="1930320"/>
          </a:xfrm>
          <a:prstGeom prst="parallelogram">
            <a:avLst>
              <a:gd name="adj" fmla="val 58361"/>
            </a:avLst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15080" y="1947960"/>
            <a:ext cx="0" cy="1901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3240" y="3635280"/>
            <a:ext cx="228600" cy="2286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51000" y="14000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7440" y="2552760"/>
            <a:ext cx="16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29160" y="3860640"/>
            <a:ext cx="1290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9:58:55Z</dcterms:created>
  <dc:creator>CCSS</dc:creator>
  <dc:description/>
  <dc:language>en-US</dc:language>
  <cp:lastModifiedBy>damon.skelton</cp:lastModifiedBy>
  <dcterms:modified xsi:type="dcterms:W3CDTF">2006-04-18T16:49:45Z</dcterms:modified>
  <cp:revision>4</cp:revision>
  <dc:subject/>
  <dc:title>No Slide Title</dc:title>
</cp:coreProperties>
</file>